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8B5-2032-4E4B-B1AD-46E9D4E6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642-FA71-4C9E-AF60-106C7CD5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008-58F1-4B5D-AC14-05CC1A79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4ED-7590-474E-AC74-FAD80010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B255-EE13-49DF-8902-7C9DA8C6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749B-341B-4A5F-A26A-1520E463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9850-652F-4F37-BCD9-167B71C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C72-879F-4BED-99C1-778B0A5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52E3-D406-4864-B00C-53924479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6F6-7032-4873-9183-13C01735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7400-F414-45AC-8515-55455E7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0EF-96D1-4875-9958-E0429A2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C5B-A931-4BB8-92BF-B3A6BB0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30D-BCCD-434F-893E-D103030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2935-EABF-490D-91F3-C08CEA7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D97-DB31-4AA7-95BE-3D279302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2C5-6DE5-4F57-9CD9-FC936225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235-2CE6-4708-814D-1B6D0041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463-1092-41BF-818E-84E80D1E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85F-260B-4BD9-AD10-46AC6BC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4CE-F898-448D-9C86-AE077097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700-1583-4A66-99F3-2C00F1A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25E-7FE8-4E5D-8BF2-0EB1086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E62-CA20-4CA1-BC02-F9375EB0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2E66-4B8B-45C7-A906-F472281716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E1B-0829-480E-B46D-4A802F4723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Nina Giglio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Jar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í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j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 Es muy lujoso y vi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29941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9.46102E-007 C 0.00729 -0.00254 0.00434 -0.00486 0.01059 -0.00786 C 0.01285 -0.01665 0.01007 -0.00879 0.01528 -0.01573 C 0.01736 -0.01851 0.01771 -0.0229 0.01997 -0.02521 C 0.02379 -0.02938 0.04011 -0.02891 0.04601 -0.02984 C 0.05365 -0.03424 0.06164 -0.03863 0.06945 -0.04233 C 0.08976 -0.06223 0.14479 -0.0502 0.14479 -0.0502 C 0.14844 -0.05066 0.16615 -0.05251 0.17066 -0.05343 C 0.17726 -0.05482 0.18403 -0.05922 0.19063 -0.05968 C 0.20591 -0.06061 0.22118 -0.06061 0.23646 -0.06107 C 0.24202 -0.06361 0.24219 -0.06708 0.24827 -0.06893 C 0.25018 -0.07102 0.25191 -0.07356 0.25417 -0.07518 C 0.25556 -0.07634 0.25764 -0.07518 0.25886 -0.0768 C 0.26007 -0.07842 0.25886 -0.08142 0.26007 -0.08304 C 0.26129 -0.08466 0.2632 -0.08397 0.26476 -0.08466 C 0.27709 -0.08975 0.26684 -0.08721 0.28351 -0.08929 C 0.29115 -0.09438 0.29723 -0.09577 0.30591 -0.09715 C 0.3132 -0.0997 0.31945 -0.10224 0.32709 -0.1034 C 0.33091 -0.10525 0.33368 -0.10872 0.33768 -0.10988 C 0.35174 -0.1145 0.36042 -0.11427 0.37778 -0.11612 C 0.47344 -0.11427 0.43507 -0.1189 0.48594 -0.10502 C 0.4875 -0.10409 0.48889 -0.10271 0.49063 -0.10201 C 0.49289 -0.10109 0.49549 -0.10178 0.49775 -0.10039 C 0.51615 -0.08883 0.52309 -0.07125 0.5342 -0.0502 C 0.53177 -0.03771 0.53316 -0.04858 0.53542 -0.02822 C 0.53698 -0.01457 0.5375 -0.00093 0.54011 0.01249 C 0.54445 0.07472 0.54705 0.13694 0.54011 0.19894 C 0.53976 0.20194 0.53733 0.20403 0.53646 0.2068 C 0.53455 0.21235 0.53316 0.21837 0.53177 0.22415 C 0.52639 0.24636 0.51927 0.26602 0.51181 0.28684 C 0.50729 0.29956 0.50486 0.31344 0.5 0.32593 C 0.49653 0.33449 0.4915 0.34166 0.48716 0.34953 C 0.4816 0.3597 0.48039 0.36641 0.47066 0.36826 C 0.4691 0.36988 0.46771 0.37196 0.46598 0.37312 C 0.46337 0.37474 0.45764 0.37613 0.45764 0.37613 C 0.45382 0.38145 0.44792 0.38422 0.44479 0.39024 C 0.44219 0.39533 0.43924 0.40157 0.4342 0.40273 C 0.42639 0.40458 0.41841 0.40435 0.41059 0.40597 C 0.39775 0.41198 0.37952 0.41245 0.36598 0.41383 C 0.33976 0.41268 0.31684 0.40874 0.29063 0.40759 C 0.27795 0.40481 0.26563 0.40134 0.25295 0.3981 C 0.24618 0.39648 0.23299 0.39186 0.23299 0.39186 C 0.22552 0.38677 0.21823 0.38237 0.21059 0.37775 C 0.20087 0.37196 0.18976 0.37011 0.18004 0.36364 C 0.1783 0.36248 0.17709 0.36017 0.17535 0.35901 C 0.16841 0.35392 0.16164 0.35276 0.15417 0.34953 C 0.13577 0.34189 0.15539 0.34698 0.13889 0.34328 C 0.129 0.33657 0.11771 0.3301 0.10955 0.31969 C 0.10348 0.31205 0.09896 0.30257 0.09184 0.29632 C 0.08559 0.28383 0.07518 0.2755 0.06719 0.26486 C 0.06337 0.25237 0.05886 0.25237 0.05295 0.24289 C 0.04792 0.23479 0.0474 0.22161 0.04479 0.21166 C 0.04809 0.19547 0.04948 0.19547 0.0566 0.18182 C 0.05486 0.1728 0.04966 0.1691 0.04601 0.16146 C 0.04723 0.15545 0.04792 0.15082 0.0507 0.14573 C 0.05365 0.13278 0.04896 0.15105 0.05539 0.13625 C 0.05625 0.1344 0.05573 0.13185 0.0566 0.13 C 0.05834 0.12653 0.06146 0.12514 0.06354 0.12214 C 0.06702 0.10918 0.06615 0.09831 0.0566 0.09392 C 0.054 0.08443 0.04792 0.08027 0.04358 0.07217 C 0.04167 0.06223 0.04132 0.06662 0.03542 0.06107 C 0.02848 0.04765 0.03768 0.06338 0.02952 0.05482 C 0.02848 0.05367 0.02795 0.05158 0.02709 0.0502 C 0.02604 0.04858 0.025 0.04673 0.02361 0.04534 C 0.02136 0.04326 0.01789 0.04187 0.01528 0.04071 C 0.00226 0.02868 0.02049 0.04488 0.00834 0.03609 C 0.00591 0.03424 0.00122 0.02984 0.00122 0.02984 C 0.00052 0.02822 -3.05556E-006 0.02637 -0.00104 0.02498 C -0.00208 0.02359 -0.00382 0.02336 -0.00468 0.02198 C -0.00573 0.02013 -0.0059 0.01758 -0.00694 0.01573 C -0.00798 0.01388 -0.00937 0.01249 -0.01059 0.01087 C -0.00885 0.00763 0.00747 -0.01504 -3.05556E-006 9.46102E-007 Z">
                                      <p:cBhvr>
                                        <p:cTn id="152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anks for Watching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625320" cy="838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44956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71362E-007 C -0.01163 -0.00786 -0.0224 -0.01596 -0.03542 -0.01896 C -0.05677 -0.01758 -0.05903 -0.0222 -0.07188 -0.00948 C -0.0757 -0.00185 -0.07917 0.00556 -0.08125 0.01411 C -0.08091 0.0199 -0.08073 0.02545 -0.08004 0.03123 C -0.07848 0.04534 -0.06771 0.04997 -0.05886 0.05159 C -0.0507 0.05714 -0.04202 0.05945 -0.03299 0.06107 C -0.02709 0.05992 -0.02084 0.06084 -0.01528 0.05783 C -0.01077 0.05529 -0.00591 0.03401 -0.00469 0.02823 C -0.00434 0.0192 -0.00417 0.01041 -0.00365 0.00139 C -0.00348 -0.00277 -0.0033 -0.00717 -0.00243 -0.0111 C -0.00209 -0.01295 4.44444E-006 -0.01573 4.44444E-006 -0.01573 E">
                                      <p:cBhvr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Ca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a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boni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estup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. Es muy bello y viej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2881440"/>
            <a:ext cx="3429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sala.  Es muy grande y incre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3379680"/>
            <a:ext cx="28191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Ga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araje.  Es muy impresionante y antig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38640" y="2505240"/>
            <a:ext cx="2466720" cy="184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60948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5.47074E-006 C 0.071 0.01227 0.08941 0.00186 0.20347 5.47074E-006 C 0.21267 -0.00255 0.21771 -0.00323 0.22708 5.47074E-006 C 0.23802 0.02823 0.2276 0.06223 0.2342 0.09254 C 0.23385 0.11035 0.23403 0.12816 0.23298 0.14574 C 0.23281 0.14967 0.2309 0.15337 0.22951 0.15684 C 0.22812 0.16008 0.22465 0.1661 0.22465 0.1661 C 0.22239 0.17674 0.21528 0.18414 0.20937 0.19131 C 0.20208 0.2001 0.19635 0.20635 0.18715 0.21167 C 0.1809 0.21976 0.17274 0.22346 0.16597 0.2304 C 0.15503 0.24174 0.14774 0.254 0.1342 0.26024 C 0.12014 0.27343 0.11857 0.27158 0.10121 0.27736 C 0.09618 0.27898 0.08594 0.28222 0.08594 0.28222 C 0.06163 0.28037 0.04444 0.27782 0.02239 0.27274 C 0.0059 0.2732 -0.01059 0.27482 -0.02709 0.27435 C -0.06233 0.27366 -0.04306 0.26834 -0.0599 0.26649 C -0.06858 0.26556 -0.07726 0.26533 -0.08594 0.26487 C -0.0908 0.26024 -0.09393 0.25793 -0.09757 0.25238 C -0.09844 0.25099 -0.09896 0.24891 -0.1 0.24775 C -0.10868 0.23804 -0.10104 0.25122 -0.10816 0.23989 C -0.11111 0.23526 -0.11372 0.2304 -0.1165 0.22578 C -0.11806 0.22323 -0.11893 0.21953 -0.12118 0.21791 C -0.12587 0.21467 -0.12761 0.21398 -0.13177 0.20843 C -0.13941 0.19825 -0.13038 0.20496 -0.14115 0.19894 C -0.14323 0.19617 -0.14479 0.19224 -0.14705 0.18969 C -0.15712 0.17859 -0.17101 0.17396 -0.18351 0.17095 C -0.19132 0.16563 -0.19948 0.15893 -0.20816 0.15684 C -0.22153 0.14782 -0.23472 0.13973 -0.24827 0.13163 C -0.25712 0.12631 -0.26476 0.1277 -0.27292 0.11914 C -0.28264 0.10873 -0.28681 0.09161 -0.29531 0.07981 C -0.3 0.06663 -0.30556 0.05275 -0.31181 0.04072 C -0.31459 0.02915 -0.31337 0.03447 -0.31528 0.02499 C -0.31476 0.01805 -0.31302 0.01157 -0.31285 0.00463 C -0.31059 -0.09252 -0.32604 -0.06337 -0.30816 -0.09414 C -0.3066 -0.10131 -0.30347 -0.10848 -0.29879 -0.11288 C -0.29705 -0.12652 -0.29288 -0.13601 -0.28351 -0.1411 C -0.27604 -0.15521 -0.28611 -0.13809 -0.27761 -0.14734 C -0.27656 -0.1485 -0.27622 -0.15058 -0.27535 -0.15197 C -0.27379 -0.15428 -0.27222 -0.1566 -0.27049 -0.15845 C -0.26302 -0.16654 -0.25382 -0.17256 -0.24462 -0.17556 C -0.24063 -0.17927 -0.23768 -0.18019 -0.23299 -0.18181 C -0.22483 -0.19037 -0.23143 -0.18505 -0.21771 -0.18806 C -0.20504 -0.19083 -0.19288 -0.19569 -0.18004 -0.19754 C -0.16406 -0.19338 -0.16406 -0.19523 -0.15174 -0.19291 C -0.14427 -0.18782 -0.13681 -0.18366 -0.12934 -0.1788 C -0.12431 -0.17163 -0.11997 -0.16677 -0.11285 -0.16469 C -0.10851 -0.15544 -0.10087 -0.15313 -0.09531 -0.14572 C -0.08976 -0.13832 -0.08299 -0.13277 -0.07761 -0.12537 C -0.07622 -0.12352 -0.0757 -0.12074 -0.07413 -0.11912 C -0.07275 -0.11797 -0.07101 -0.11797 -0.06945 -0.1175 C -0.06511 -0.1101 -0.0632 -0.1027 -0.0599 -0.09414 C -0.05955 -0.09159 -0.06025 -0.08813 -0.05886 -0.08627 C -0.05556 -0.08188 -0.04705 -0.07679 -0.04705 -0.07679 C -0.04219 -0.06384 -0.04514 -0.06453 -0.03525 -0.05805 C -0.02726 -0.04371 -0.01754 -0.03284 -0.00816 -0.02035 C -0.00052 -0.01017 -0.00712 -0.01364 0.00121 -0.0111 C 0.00278 -0.00508 0.00347 0.00787 0.00347 0.00787 E">
                                      <p:cBhvr>
                                        <p:cTn id="74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aur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.  Es lujosa y muy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3317760"/>
            <a:ext cx="28191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cina.  Es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fico 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343400" y="2946240"/>
            <a:ext cx="3276720" cy="205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9456E-006 C 0.00556 -0.00161 0.01007 -0.00555 0.01528 -0.00786 C 0.0184 -0.00925 0.03229 -0.01087 0.03299 -0.01087 C 0.05851 -0.0104 0.08386 -0.01017 0.10938 -0.00925 C 0.1217 -0.00879 0.14653 0.01712 0.15538 0.02823 C 0.15764 0.03887 0.16476 0.03956 0.16945 0.04719 C 0.18125 0.06639 0.1717 0.05714 0.18004 0.06431 C 0.18108 0.07125 0.18333 0.0812 0.18715 0.08629 C 0.18958 0.08953 0.19531 0.09415 0.19531 0.09438 C 0.19601 0.096 0.20469 0.12284 0.20712 0.12538 C 0.21458 0.13371 0.22083 0.14365 0.22708 0.1536 C 0.23073 0.1728 0.23073 0.17003 0.23177 0.19917 C 0.23056 0.25261 0.2349 0.24937 0.21892 0.28222 C 0.21771 0.28892 0.21528 0.29332 0.21302 0.29933 C 0.21094 0.31506 0.20608 0.33079 0.19879 0.34305 C 0.19722 0.35046 0.19149 0.35531 0.18715 0.36063 C 0.17327 0.37683 0.15521 0.38492 0.13767 0.39186 C 0.13229 0.39672 0.12761 0.40227 0.12118 0.40458 C 0.10208 0.4217 0.12587 0.40158 0.10712 0.41384 C 0.09757 0.42008 0.09063 0.42656 0.08004 0.42957 C 0.06545 0.4291 0.05104 0.42887 0.03646 0.42795 C 0.03264 0.42772 0.02813 0.42217 0.02587 0.42008 C 0.02014 0.41476 0.01059 0.41407 0.00365 0.41245 C -0.00521 0.40458 0.00556 0.41337 -0.00469 0.40759 C -0.01146 0.40366 -0.01684 0.39649 -0.02344 0.39186 C -0.02465 0.38978 -0.03368 0.37567 -0.03646 0.37012 C -0.03906 0.3648 -0.03958 0.35763 -0.04236 0.35277 C -0.04548 0.34722 -0.04687 0.34514 -0.0493 0.33866 C -0.05173 0.33195 -0.05278 0.32501 -0.05521 0.3183 C -0.0566 0.30188 -0.05798 0.28545 -0.06111 0.26972 C -0.06076 0.2577 -0.06059 0.24544 -0.05989 0.23364 C -0.05885 0.21374 -0.05069 0.19339 -0.04705 0.17396 C -0.04583 0.15476 -0.04566 0.13533 -0.04358 0.11613 C -0.04305 0.09577 -0.04792 0.0731 -0.04114 0.05483 C -0.03785 0.04557 -0.0283 0.04002 -0.02239 0.03447 C -0.00503 0.01782 -0.02552 0.03401 -0.01528 0.02198 C -0.00573 0.01065 -0.00226 0.01712 -1.11111E-006 -4.49456E-006 Z">
                                      <p:cBhvr>
                                        <p:cTn id="104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me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omedor.  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 y muy nue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1240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 Es bello y bo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2611440"/>
            <a:ext cx="31240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6:44Z</dcterms:created>
  <dc:creator>gigliottinin</dc:creator>
  <dc:description/>
  <dc:language>en-US</dc:language>
  <cp:lastModifiedBy>gigliottinin</cp:lastModifiedBy>
  <dcterms:modified xsi:type="dcterms:W3CDTF">2012-10-26T17:03:56Z</dcterms:modified>
  <cp:revision>12</cp:revision>
  <dc:subject/>
  <dc:title>La Casa</dc:title>
</cp:coreProperties>
</file>